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8E5-CF59-4676-BD8B-A23865CE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FBF-9B4E-4681-8275-3065D919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70E-C233-4B52-980C-398FAF41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6A3-6488-4D2F-AF2F-09FC95D8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67B-5787-4110-BCD6-7DFC0063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489-BFFD-4C6B-8F6C-98058A42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091-B2CF-4903-BBA8-29E954EC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3308-B6CE-4B2D-8903-54F73803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74D-8C6C-47BE-9BA1-3DE3A3FA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066-A3FC-4DEB-BB75-D5A3AF66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78C-607F-4511-BD82-1876C9F9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FB8-1060-4DDC-AAFC-B0185DB3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2D5A-AE27-4FED-A3ED-433A98B46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966600" cy="1239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627280" y="476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GoudyOlSt BT"/>
              </a:rPr>
              <a:t>Mode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GoudyOlSt BT"/>
              <a:ea typeface="GoudyOlSt B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3313080" cy="2236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2708280"/>
            <a:ext cx="367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del: a scal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67280" y="2349000"/>
            <a:ext cx="504720" cy="1168200"/>
            <a:chOff x="4067280" y="2349000"/>
            <a:chExt cx="504720" cy="1168200"/>
          </a:xfrm>
        </p:grpSpPr>
        <p:sp>
          <p:nvSpPr>
            <p:cNvPr id="46" name=""/>
            <p:cNvSpPr/>
            <p:nvPr/>
          </p:nvSpPr>
          <p:spPr>
            <a:xfrm flipV="1">
              <a:off x="4067280" y="2349000"/>
              <a:ext cx="504720" cy="584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67280" y="2933640"/>
              <a:ext cx="504720" cy="58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932360" y="1989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3500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588000" y="981000"/>
            <a:ext cx="2089440" cy="167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588000" y="2924280"/>
            <a:ext cx="2016360" cy="196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859280" y="4869000"/>
            <a:ext cx="129528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3280" y="620640"/>
            <a:ext cx="3745080" cy="27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743280" cy="267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3745080" cy="275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4360" y="3429000"/>
            <a:ext cx="37447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425840"/>
            <a:ext cx="2987640" cy="2243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13120" y="4402080"/>
            <a:ext cx="3171600" cy="226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9280" y="152280"/>
            <a:ext cx="8820360" cy="4160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084720" y="4437000"/>
            <a:ext cx="3024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22:28:15Z</dcterms:created>
  <dc:creator>micro</dc:creator>
  <dc:description/>
  <dc:language>en-US</dc:language>
  <cp:lastModifiedBy>micro</cp:lastModifiedBy>
  <dcterms:modified xsi:type="dcterms:W3CDTF">2009-11-30T22:59:08Z</dcterms:modified>
  <cp:revision>6</cp:revision>
  <dc:subject/>
  <dc:title>Diapositiva 1</dc:title>
</cp:coreProperties>
</file>